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7D2-D02A-48B8-85C4-168D02B8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77F-A759-49E1-BE85-1CAF081B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92F-A857-4F1A-977D-7B6BFFA0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C17-AAB4-4305-B959-DFFAFDF4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B85C-FF8E-4505-AAA2-38F66A69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FA0F-D9D0-4CB7-9B66-46F92AD9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192B-632C-4F0A-821F-AAC2ADD1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5A99-BB69-4B14-AD1E-40E5B9A3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B0CC-DB86-4A27-A440-49BB42B5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C1E8-BD61-41A9-833E-85E57AE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E0C9-B211-4572-BB27-84FBAAC8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465-D4A9-4DCE-8024-2ABCCEA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D42F-2442-4B10-A5CE-3079A734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4797-91AE-4C83-9D8A-811FA8C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6651-26A0-449F-942C-7AB97014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7FCD-B467-4083-B047-D4DCC795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2390-4B91-4843-ACAC-EC5873F7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6137-0692-4DE3-B2C4-74E2D730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7D3D-5C8F-4DBF-9EA4-F5BCE86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28A1-C785-45D6-B4D6-133D93B7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B13D-E98A-4A90-84CA-1E82665B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823C-8F8E-4E89-896C-C34662EB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058-476A-4A69-B15D-D837A475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1282-04C4-4454-9FD3-5A27FA4F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431D-431C-45A6-B3EC-D758B9E1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726B-62B9-4919-90D7-3F3AEB7F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59D3-8D21-467B-90EF-4CC0B6AA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238F-FC1A-4D68-99F2-99A01DE7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9329-0EA2-4B85-A17F-FD0BE9B5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5CC7-28FF-47FA-9E01-7CA1C9BF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F769-0400-4E34-BC61-EBAE87D2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0E14B-0B15-4692-8C71-005F17B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D0F5-C6DE-4359-8B33-6B4D9748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E9E-3532-471D-B6A5-8CB41D3E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AA24-9CBE-4BB9-8FE6-906A44A4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8658-EFFE-430E-B265-159FD174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211C7-F20B-48E2-AEFE-2FA5C2F1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012E-0BD1-4682-8B9F-0A24021C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9AE5-AADE-4B35-A442-083616D3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1B47-CC42-4747-989B-44ED9D5D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5F845-869D-4CF5-AFEE-1B458CDB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0A675-8983-46CF-A0BC-81BF630D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0A64B-E79B-4F35-B25F-FE466501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3E8-8176-4BE2-AD2D-381EBCBC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96F-91E8-4BFE-BBA8-A51288A2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E83-DE94-437B-937B-9403945F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69A-801E-4EEC-9B38-0FC6CE35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587-CE65-4076-ABB6-1D4F34AD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5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1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70671-A3CD-43A8-996A-DE5B5274426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04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47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51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49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0DC21-8B81-4854-B001-F6D9C707470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07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94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3075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6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01693-7172-447C-A119-816EB293304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09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4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Group 4099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ECE01-550B-4B7C-AA95-24F46890D9A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How Many </a:t>
            </a:r>
            <a:r>
              <a:rPr b="0" lang="en-GB" sz="5400" spc="-1" strike="noStrike">
                <a:solidFill>
                  <a:srgbClr val="404040"/>
                </a:solidFill>
                <a:latin typeface="Calisto MT"/>
                <a:ea typeface="SimSun"/>
              </a:rPr>
              <a:t>.....</a:t>
            </a: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 are There?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040" y="344808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sto MT"/>
                <a:ea typeface="SimSun"/>
              </a:rPr>
              <a:t>Show the picture for ten seconds then they can write or shout out the guess. Go back and count af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5" name="Content Placeholder 15362" descr=""/>
          <p:cNvPicPr/>
          <p:nvPr/>
        </p:nvPicPr>
        <p:blipFill>
          <a:blip r:embed="rId1"/>
          <a:stretch/>
        </p:blipFill>
        <p:spPr>
          <a:xfrm>
            <a:off x="1581120" y="2011320"/>
            <a:ext cx="5337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zebra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 zebra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9" name="Content Placeholder 17410" descr=""/>
          <p:cNvPicPr/>
          <p:nvPr/>
        </p:nvPicPr>
        <p:blipFill>
          <a:blip r:embed="rId1"/>
          <a:stretch/>
        </p:blipFill>
        <p:spPr>
          <a:xfrm>
            <a:off x="2890800" y="1838160"/>
            <a:ext cx="312408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fr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fr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13" name="Content Placeholder 19458" descr=""/>
          <p:cNvPicPr/>
          <p:nvPr/>
        </p:nvPicPr>
        <p:blipFill>
          <a:blip r:embed="rId1"/>
          <a:stretch/>
        </p:blipFill>
        <p:spPr>
          <a:xfrm>
            <a:off x="1890720" y="2090880"/>
            <a:ext cx="53420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hors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hor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mi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mouse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87520" y="1417680"/>
            <a:ext cx="70167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870200" y="1417680"/>
            <a:ext cx="549576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893960" y="1417680"/>
            <a:ext cx="5151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809720" y="1417680"/>
            <a:ext cx="5175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89" name="Content Placeholder 7170" descr=""/>
          <p:cNvPicPr/>
          <p:nvPr/>
        </p:nvPicPr>
        <p:blipFill>
          <a:blip r:embed="rId1"/>
          <a:stretch/>
        </p:blipFill>
        <p:spPr>
          <a:xfrm>
            <a:off x="1450800" y="1805040"/>
            <a:ext cx="6237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905120" y="1417680"/>
            <a:ext cx="5327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217520" y="1673280"/>
            <a:ext cx="60022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736560" y="1417680"/>
            <a:ext cx="7831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tiger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tig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3" name="Content Placeholder 9218" descr=""/>
          <p:cNvPicPr/>
          <p:nvPr/>
        </p:nvPicPr>
        <p:blipFill>
          <a:blip r:embed="rId1"/>
          <a:stretch/>
        </p:blipFill>
        <p:spPr>
          <a:xfrm>
            <a:off x="1450800" y="1790640"/>
            <a:ext cx="59104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d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d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7" name="Content Placeholder 11266" descr=""/>
          <p:cNvPicPr/>
          <p:nvPr/>
        </p:nvPicPr>
        <p:blipFill>
          <a:blip r:embed="rId1"/>
          <a:stretch/>
        </p:blipFill>
        <p:spPr>
          <a:xfrm>
            <a:off x="1790640" y="1854360"/>
            <a:ext cx="58546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elephan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elephan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1" name="Content Placeholder 13314" descr=""/>
          <p:cNvPicPr/>
          <p:nvPr/>
        </p:nvPicPr>
        <p:blipFill>
          <a:blip r:embed="rId1"/>
          <a:stretch/>
        </p:blipFill>
        <p:spPr>
          <a:xfrm>
            <a:off x="1521000" y="1979640"/>
            <a:ext cx="5746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r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r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c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 c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6:39:48Z</dcterms:created>
  <dc:creator>Clark Kopelman</dc:creator>
  <dc:description/>
  <dc:language>en-US</dc:language>
  <cp:lastModifiedBy>firea</cp:lastModifiedBy>
  <dcterms:modified xsi:type="dcterms:W3CDTF">2018-12-12T05:20:45Z</dcterms:modified>
  <cp:revision>5</cp:revision>
  <dc:subject/>
  <dc:title>Fruits and Veget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7587</vt:lpwstr>
  </property>
</Properties>
</file>